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7621C-CEC2-41B0-972B-930BAED77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908B0-6AF2-4A3A-94EB-1D789A033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BE9CF-5DFA-4F07-9434-F7452B934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712CF-3C33-41C7-A84A-C642F43D0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46694E-59C7-49AC-9677-BB3C6B0DBD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597B1-E074-4E0C-9D5F-8CFB14C67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84EFA-64D6-4C48-9373-42438041C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C25A2-F89A-407E-AA3A-BCEA9045C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8F433-C5C2-4083-B2E9-464CA8EF6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72848-F7B7-49A8-B6C7-5C4B6C191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98C94-0721-41B1-AA09-94FF887ED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59EFB-4EDD-4422-BCFF-61FC706D5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6D0AE-BAAD-4CA7-B11F-BE4AB8FF0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88535-4A1B-4D74-9CF8-7ADF40AB0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87A99-52BD-441B-BF69-121D77877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9A68BD-B49D-40B2-B1BA-0AD6CC3B2C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E79DC0-EAB2-49A4-896B-4B0D91FFF1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6DDFF72-B688-4BFD-864F-7A0ACB7A5A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F11E65A-3B39-4179-B516-6F16AACE72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11ADC29-7F99-472B-BE30-44ED82131D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07CE17E-7FBF-43ED-8844-1DEC5252E4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7513A90-CEB6-4D61-8F4B-8B8E63B9EA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22407-C86B-41AB-8B83-F9950251A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3AA2AD9-EE33-4071-9D6B-2D66CA876D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74BEAED-3910-4B1D-882B-899A97B92E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7FB3DC6-2321-4B8C-963B-7E9D2BCCED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E556AB4-3841-44A3-9860-615BD0603A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BA56120-AACB-4C32-BD28-1FDDA2423B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9747BE1-7D9B-4CBF-A7AC-2505730BE6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9886A94-A505-44CE-BE04-D72DFC3E24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3C0B4C-C6FF-40A6-936A-81847DF5E0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38F9F1-7785-43B3-BACC-A97F6A1BB3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5D2E31-ABB8-49D0-9A45-31AF0B0034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5FFF9-70AA-4123-BF76-2B95627CE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08AEFA-6617-40C2-B704-9B1241E125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827BB0-4D02-43D7-AAFA-6D6F1C13CC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5C4290-F24B-4049-9C5F-9F2E507197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4145E-DEBE-4526-BF02-2BAC0B4687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D7564B-12F6-46A8-8741-5E65D5E947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D8A4B3-FFB3-4E79-9952-90295E38BF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9C7C75-9768-4012-AD68-274BDAC1CF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9621EC-CC4A-4F94-AECC-EBB975168A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979ADF-64E3-443A-81B4-56B593EBEE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B2E4052-5F3B-4C7F-A30C-2C8F55581C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28079-3B56-49DD-84B2-3CCDEE455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036CF3D-4D14-4F21-8437-BFB1192942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55924BD-4205-4D00-9416-729D4BF10F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1DD44FC-3D40-42B7-8DB5-CB2AFF6CC9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8C0A28F-BF2A-46DD-9D44-D8662919E0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D5B6963-318A-4748-81EF-0AE8CC9E69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3DE2073-3C9C-484D-80FA-6CC29D5796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9CC2AB5-D28D-48AB-992B-0DDDDB60AC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946FA31-3B62-4218-94F0-6A7ECF39A9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476BE13-5DE3-409E-A86D-A0A132C0DA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1606245-BD8E-42B5-B2D9-B76686F482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BB690-CA66-4F69-86B4-2E7EE250B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83D17E6-83ED-4A3C-AC05-E6F8532996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EC66973-0B06-4CF4-BD75-B1060D6FF0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46B9FAA-A0D2-4BD5-87B7-1A0612D050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6CC3B5D-3028-4318-B650-4CB989C2E8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216CA39-9A2C-4A00-828B-9505385A68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CBA5B6D-4C71-4624-B4D5-F036ECEB10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8FEC089-62E2-4EC5-B0B5-EB5A21A0C4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8D1B8C9-B215-4D6C-B626-153F10FAD5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0018116-1BC8-402D-8A58-78C75C1359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C554968-7ACB-4245-87E6-81B6547510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76330-5AC1-40AE-BFDC-AFE31693C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E1C4D07-349A-4BD4-A587-07833C6749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3FD6E55-E2FF-40A2-BF1F-00F8843C20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8A0C47A-3232-4CFC-8BE0-46135F64E2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635519B-CD21-45F5-8E92-EA9D40930B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2930571-BBA8-4FD3-AC2A-B22CDD62C1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30830A9-A3A4-47FC-BDE3-86571F6B4B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55169EA-4333-4B4A-BD96-FEAF987EEB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BB6DAF9-4A88-4285-A779-327F255914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4B5329D-5B4B-4892-8548-3751EF26B7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1445640-CDB9-4501-871D-27275DA876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CDCDD-9EEC-462A-9421-62E3B8F48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45914B0-21DC-41BB-ABF1-08C4DE496D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34284E3-3272-41BE-81D1-07A8DB59A8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39D6F3D-D6F4-4170-9492-26DA91312D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B8EFF12-E558-4A94-812B-EE3CB31DED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2D3763E-E520-4C49-AC0F-F9EFCF42AB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2AA74-2960-402E-8826-8373092DE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85B31-D3FA-44E5-B6F9-6BDFB56650DA}" type="slidenum">
              <a:rPr b="1" lang="es-A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9D04-FFED-4515-A194-41DBC11E8A5B}" type="slidenum">
              <a:rPr b="1" lang="es-A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CF08-D1FD-4BB4-AD25-DF8E6082CA68}" type="slidenum">
              <a:rPr b="1" lang="es-A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AC1C-4E86-4303-AF2C-02ED7907B6C1}" type="slidenum">
              <a:rPr b="1" lang="es-A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8072-AB0D-45AD-A4F3-357E97A4FA86}" type="slidenum">
              <a:rPr b="1" lang="es-A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014D-06D0-4892-BABF-1D76639D711E}" type="slidenum">
              <a:rPr b="1" lang="es-A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FA76-93EE-4D8A-9EAB-F078EDBBA2D1}" type="slidenum">
              <a:rPr b="1" lang="es-A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214280" y="1499760"/>
            <a:ext cx="7772400" cy="714600"/>
          </a:xfrm>
          <a:prstGeom prst="rect">
            <a:avLst/>
          </a:prstGeom>
          <a:solidFill>
            <a:srgbClr val="c00000"/>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fdf5d5"/>
                </a:solidFill>
                <a:latin typeface="Century Schoolbook"/>
              </a:rPr>
              <a:t>JURISPRUDENCIA RELEVANTE</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99680" y="213840"/>
            <a:ext cx="7467480" cy="785880"/>
          </a:xfrm>
          <a:prstGeom prst="rect">
            <a:avLst/>
          </a:prstGeom>
          <a:solidFill>
            <a:srgbClr val="b32c16"/>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df5d5"/>
                </a:solidFill>
                <a:latin typeface="Century Schoolbook"/>
              </a:rPr>
              <a:t>ADMINISTRATIVA</a:t>
            </a:r>
            <a:endParaRPr b="0" lang="en-US" sz="3000" spc="-1" strike="noStrike">
              <a:solidFill>
                <a:srgbClr val="575f6d"/>
              </a:solidFill>
              <a:latin typeface="Century Schoolbook"/>
            </a:endParaRPr>
          </a:p>
        </p:txBody>
      </p:sp>
      <p:sp>
        <p:nvSpPr>
          <p:cNvPr id="369" name=""/>
          <p:cNvSpPr txBox="1"/>
          <p:nvPr/>
        </p:nvSpPr>
        <p:spPr>
          <a:xfrm>
            <a:off x="456840" y="1285560"/>
            <a:ext cx="7467480" cy="5187960"/>
          </a:xfrm>
          <a:prstGeom prst="rect">
            <a:avLst/>
          </a:prstGeom>
          <a:solidFill>
            <a:srgbClr val="ffc000"/>
          </a:solidFill>
          <a:ln w="9360">
            <a:solidFill>
              <a:srgbClr val="fe8637"/>
            </a:solidFill>
            <a:miter/>
          </a:ln>
        </p:spPr>
        <p:txBody>
          <a:bodyPr anchor="t">
            <a:normAutofit/>
          </a:bodyPr>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Schoolbook"/>
              </a:rPr>
              <a:t>DECRETO N° 814/01, ARTÍCULO 2°. VENTAS TOTALES A CONSIDERAR. EXPORTACION DE SERVICIOS RES N° 03/19 (SDG TLSS) Fecha: 04/04/19: </a:t>
            </a:r>
            <a:r>
              <a:rPr b="0" lang="es-AR" sz="2000" spc="-1" strike="noStrike">
                <a:solidFill>
                  <a:srgbClr val="000000"/>
                </a:solidFill>
                <a:latin typeface="Century Schoolbook"/>
              </a:rPr>
              <a:t>Resulta procedente la deducibilidad del 50% monto de las exportaciones de servicios, a los fines de la determinación de la alícuota de contribuciones patronales a aplicar conforme las previsiones del Artículo 2° del Decreto N° 814/01, en la medida que los importes de las ventas por dichas operaciones se encuentren instrumentados en una factura tipo ―E</a:t>
            </a:r>
            <a:endParaRPr b="0" lang="en-US" sz="20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entury Schoolbook"/>
              </a:rPr>
              <a:t>RSPPC (RS). ADHESION AL REGIMEN. LOCACION DE COCHERAS. LEY N° 24.977 RES N° 01/19 (SDG TLSS) Fecha: 01/03/19: D</a:t>
            </a:r>
            <a:r>
              <a:rPr b="0" lang="es-AR" sz="2000" spc="-1" strike="noStrike">
                <a:solidFill>
                  <a:srgbClr val="000000"/>
                </a:solidFill>
                <a:latin typeface="Century Schoolbook"/>
              </a:rPr>
              <a:t>eberá considerarse la cantidad de unidades de explotación (cocheras) que posee, cuyo número no podrá ser mayor a tres –aún cuando las mismas se encuentren en el mismo inmueble y bajo la misma numeración catastral-.</a:t>
            </a:r>
            <a:endParaRPr b="0" lang="en-US" sz="20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Century Schoolbook"/>
              </a:rPr>
              <a:t>     </a:t>
            </a: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99680" y="213840"/>
            <a:ext cx="7467480" cy="785880"/>
          </a:xfrm>
          <a:prstGeom prst="rect">
            <a:avLst/>
          </a:prstGeom>
          <a:solidFill>
            <a:srgbClr val="b32c16"/>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df5d5"/>
                </a:solidFill>
                <a:latin typeface="Century Schoolbook"/>
              </a:rPr>
              <a:t>NACIONAL</a:t>
            </a:r>
            <a:endParaRPr b="0" lang="en-US" sz="3000" spc="-1" strike="noStrike">
              <a:solidFill>
                <a:srgbClr val="575f6d"/>
              </a:solidFill>
              <a:latin typeface="Century Schoolbook"/>
            </a:endParaRPr>
          </a:p>
        </p:txBody>
      </p:sp>
      <p:sp>
        <p:nvSpPr>
          <p:cNvPr id="353" name=""/>
          <p:cNvSpPr txBox="1"/>
          <p:nvPr/>
        </p:nvSpPr>
        <p:spPr>
          <a:xfrm>
            <a:off x="456840" y="1285560"/>
            <a:ext cx="7467480" cy="5187960"/>
          </a:xfrm>
          <a:prstGeom prst="rect">
            <a:avLst/>
          </a:prstGeom>
          <a:solidFill>
            <a:srgbClr val="ffc000"/>
          </a:solidFill>
          <a:ln w="9360">
            <a:solidFill>
              <a:srgbClr val="fe8637"/>
            </a:solidFill>
            <a:miter/>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Michaux, Pablo Ricardo c/DGI s/recurso directo de organismo externo (CNCAF Sala II- 04/06/2019)</a:t>
            </a:r>
            <a:endParaRPr b="0" lang="en-US" sz="20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    </a:t>
            </a:r>
            <a:r>
              <a:rPr b="0" lang="es-AR" sz="2000" spc="-1" strike="noStrike">
                <a:solidFill>
                  <a:srgbClr val="000000"/>
                </a:solidFill>
                <a:latin typeface="Century Schoolbook"/>
              </a:rPr>
              <a:t>Antecedentes: Chiarandini Fabio David </a:t>
            </a:r>
            <a:r>
              <a:rPr b="0" lang="pt-BR" sz="2000" spc="-1" strike="noStrike">
                <a:solidFill>
                  <a:srgbClr val="000000"/>
                </a:solidFill>
                <a:latin typeface="Century Schoolbook"/>
              </a:rPr>
              <a:t>c/DGI (CNCAF Sala IV 04/06/2013) y Ferrari Osvaldo c/DGI (CNCAF Sala III 07/11/2013)</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Prescripción empleado en relación de dependencia inscripto en Bienes Personales 5 años. Por impuestos interdependientes. </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La obtención de la CUIT por un impuesto da carácter de inscripto en todos los impuestos. </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Art. 1 del DR LIG. Los contribuyentes que solo  obtienen ingresos provenientes del trabajo en relación de dependencia están exentos de presentar DDJJ mientras no medie requerimiento de la AFIP.  </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OJO!!! Reforma del art 1 DR LIG</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99680" y="213840"/>
            <a:ext cx="7467480" cy="785880"/>
          </a:xfrm>
          <a:prstGeom prst="rect">
            <a:avLst/>
          </a:prstGeom>
          <a:solidFill>
            <a:srgbClr val="b32c16"/>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df5d5"/>
                </a:solidFill>
                <a:latin typeface="Century Schoolbook"/>
              </a:rPr>
              <a:t>NACIONAL</a:t>
            </a:r>
            <a:endParaRPr b="0" lang="en-US" sz="3000" spc="-1" strike="noStrike">
              <a:solidFill>
                <a:srgbClr val="575f6d"/>
              </a:solidFill>
              <a:latin typeface="Century Schoolbook"/>
            </a:endParaRPr>
          </a:p>
        </p:txBody>
      </p:sp>
      <p:sp>
        <p:nvSpPr>
          <p:cNvPr id="355" name=""/>
          <p:cNvSpPr txBox="1"/>
          <p:nvPr/>
        </p:nvSpPr>
        <p:spPr>
          <a:xfrm>
            <a:off x="456840" y="1285560"/>
            <a:ext cx="7467480" cy="5187960"/>
          </a:xfrm>
          <a:prstGeom prst="rect">
            <a:avLst/>
          </a:prstGeom>
          <a:solidFill>
            <a:srgbClr val="ffc000"/>
          </a:solidFill>
          <a:ln w="9360">
            <a:solidFill>
              <a:srgbClr val="fe8637"/>
            </a:solidFill>
            <a:miter/>
          </a:ln>
        </p:spPr>
        <p:txBody>
          <a:bodyPr anchor="t">
            <a:normAutofit/>
          </a:bodyPr>
          <a:p>
            <a:pPr marL="120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CONT: 1</a:t>
            </a:r>
            <a:endParaRPr b="0" lang="en-US" sz="2000" spc="-1" strike="noStrike">
              <a:solidFill>
                <a:srgbClr val="000000"/>
              </a:solidFill>
              <a:latin typeface="Century Schoolbook"/>
            </a:endParaRPr>
          </a:p>
          <a:p>
            <a:pPr marL="12060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12060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La expresión de agravios debe consistir en una crítica concreta, razonada y autosuficiente del pronunciamiento apelado, que no se sustituye con una mera discrepancia con el criterio del juzgador, sino que implica el estudio de los razonamientos de aquél, demostrando las equivocadas deducciones, inducciones y conjeturas sobre las cuestiones resueltas. “criticar” es muy distinto a “disentir”. La crítica debe significar un ataque directo y pertinente a la fundamentación, tratando de demostrar los errores jurídicos y fácticos que éste pudiere contener. En cambio, disentir es meramente exponer que no se está de acuerdo con la sentencia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99680" y="213840"/>
            <a:ext cx="7467480" cy="785880"/>
          </a:xfrm>
          <a:prstGeom prst="rect">
            <a:avLst/>
          </a:prstGeom>
          <a:solidFill>
            <a:srgbClr val="b32c16"/>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df5d5"/>
                </a:solidFill>
                <a:latin typeface="Century Schoolbook"/>
              </a:rPr>
              <a:t>NACIONAL</a:t>
            </a:r>
            <a:endParaRPr b="0" lang="en-US" sz="3000" spc="-1" strike="noStrike">
              <a:solidFill>
                <a:srgbClr val="575f6d"/>
              </a:solidFill>
              <a:latin typeface="Century Schoolbook"/>
            </a:endParaRPr>
          </a:p>
        </p:txBody>
      </p:sp>
      <p:sp>
        <p:nvSpPr>
          <p:cNvPr id="357" name=""/>
          <p:cNvSpPr txBox="1"/>
          <p:nvPr/>
        </p:nvSpPr>
        <p:spPr>
          <a:xfrm>
            <a:off x="456840" y="1285560"/>
            <a:ext cx="7467480" cy="5187960"/>
          </a:xfrm>
          <a:prstGeom prst="rect">
            <a:avLst/>
          </a:prstGeom>
          <a:solidFill>
            <a:srgbClr val="ffc000"/>
          </a:solidFill>
          <a:ln w="9360">
            <a:solidFill>
              <a:srgbClr val="fe8637"/>
            </a:solidFill>
            <a:miter/>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 </a:t>
            </a:r>
            <a:r>
              <a:rPr b="0" lang="pt-BR" sz="2000" spc="-1" strike="noStrike">
                <a:solidFill>
                  <a:srgbClr val="000000"/>
                </a:solidFill>
                <a:latin typeface="Century Schoolbook"/>
              </a:rPr>
              <a:t>Sigma SA c/DGI s/recurso directo de organismo externo </a:t>
            </a:r>
            <a:r>
              <a:rPr b="0" lang="es-AR" sz="2000" spc="-1" strike="noStrike">
                <a:solidFill>
                  <a:srgbClr val="000000"/>
                </a:solidFill>
                <a:latin typeface="Century Schoolbook"/>
              </a:rPr>
              <a:t>(CNCAF Sala IV- 11/05/2019)</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Beneficio de liberación de impuestos previsto en el art. 32 de la ley 26.476. </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La ley no hace ninguna referencia a que queden excluidos de las liberaciones los créditos fiscales impugnados por la presentación de facturas apócrifas.</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 </a:t>
            </a:r>
            <a:r>
              <a:rPr b="0" lang="es-AR" sz="2000" spc="-1" strike="noStrike">
                <a:solidFill>
                  <a:srgbClr val="000000"/>
                </a:solidFill>
                <a:latin typeface="Century Schoolbook"/>
              </a:rPr>
              <a:t>Su aplicación se haga extensiva a todas aquellas situaciones fácticas y jurídicas derivadas de la mecánica de cada tributo en cuestión</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 </a:t>
            </a:r>
            <a:r>
              <a:rPr b="0" lang="es-AR" sz="2000" spc="-1" strike="noStrike">
                <a:solidFill>
                  <a:srgbClr val="000000"/>
                </a:solidFill>
                <a:latin typeface="Century Schoolbook"/>
              </a:rPr>
              <a:t>La ley no efectúa diferencias para la eximición del pago de los impuestos ya sea que la determinación provenga de un ajuste en el débito o en el crédito fiscal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99680" y="213840"/>
            <a:ext cx="7467480" cy="785880"/>
          </a:xfrm>
          <a:prstGeom prst="rect">
            <a:avLst/>
          </a:prstGeom>
          <a:solidFill>
            <a:srgbClr val="b32c16"/>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df5d5"/>
                </a:solidFill>
                <a:latin typeface="Century Schoolbook"/>
              </a:rPr>
              <a:t>NACIONAL</a:t>
            </a:r>
            <a:endParaRPr b="0" lang="en-US" sz="3000" spc="-1" strike="noStrike">
              <a:solidFill>
                <a:srgbClr val="575f6d"/>
              </a:solidFill>
              <a:latin typeface="Century Schoolbook"/>
            </a:endParaRPr>
          </a:p>
        </p:txBody>
      </p:sp>
      <p:sp>
        <p:nvSpPr>
          <p:cNvPr id="359" name=""/>
          <p:cNvSpPr txBox="1"/>
          <p:nvPr/>
        </p:nvSpPr>
        <p:spPr>
          <a:xfrm>
            <a:off x="456840" y="1285560"/>
            <a:ext cx="7467480" cy="5187960"/>
          </a:xfrm>
          <a:prstGeom prst="rect">
            <a:avLst/>
          </a:prstGeom>
          <a:solidFill>
            <a:srgbClr val="ffc000"/>
          </a:solidFill>
          <a:ln w="9360">
            <a:solidFill>
              <a:srgbClr val="fe8637"/>
            </a:solidFill>
            <a:miter/>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entury Schoolbook"/>
              </a:rPr>
              <a:t> </a:t>
            </a:r>
            <a:r>
              <a:rPr b="0" lang="pt-BR" sz="2000" spc="-1" strike="noStrike">
                <a:solidFill>
                  <a:srgbClr val="000000"/>
                </a:solidFill>
                <a:latin typeface="Century Schoolbook"/>
              </a:rPr>
              <a:t>Germaíz SA c/DGI s/recurso directo de organismo externo </a:t>
            </a:r>
            <a:r>
              <a:rPr b="0" lang="es-AR" sz="2000" spc="-1" strike="noStrike">
                <a:solidFill>
                  <a:srgbClr val="000000"/>
                </a:solidFill>
                <a:latin typeface="Century Schoolbook"/>
              </a:rPr>
              <a:t> (CNCAF Sala III- 11/06/2019)</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Los cargos imputados tienen epicentro en la incapacidad económica y operativa de los proveedores</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Lo controvertido no gira en torno a si Germaiz contaba con toneladas de aceite de girasol y/o semillas y/o pellets de girasol, sino a la efectiva adquisición de dichos productos a los proveedores cuestionados, si bien la propia inspección interviniente afirmó que se validó la existencia de los bienes cuyo transporte fue reconocido por las empresas circularizadas  </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Se confirmó el ajuste en IVA, Ganancias y aplicación de salidas no documentadas.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99680" y="213840"/>
            <a:ext cx="7467480" cy="785880"/>
          </a:xfrm>
          <a:prstGeom prst="rect">
            <a:avLst/>
          </a:prstGeom>
          <a:solidFill>
            <a:srgbClr val="b32c16"/>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df5d5"/>
                </a:solidFill>
                <a:latin typeface="Century Schoolbook"/>
              </a:rPr>
              <a:t>NACIONAL</a:t>
            </a:r>
            <a:endParaRPr b="0" lang="en-US" sz="3000" spc="-1" strike="noStrike">
              <a:solidFill>
                <a:srgbClr val="575f6d"/>
              </a:solidFill>
              <a:latin typeface="Century Schoolbook"/>
            </a:endParaRPr>
          </a:p>
        </p:txBody>
      </p:sp>
      <p:sp>
        <p:nvSpPr>
          <p:cNvPr id="361" name=""/>
          <p:cNvSpPr txBox="1"/>
          <p:nvPr/>
        </p:nvSpPr>
        <p:spPr>
          <a:xfrm>
            <a:off x="456840" y="1285560"/>
            <a:ext cx="7467480" cy="5187960"/>
          </a:xfrm>
          <a:prstGeom prst="rect">
            <a:avLst/>
          </a:prstGeom>
          <a:solidFill>
            <a:srgbClr val="ffc000"/>
          </a:solidFill>
          <a:ln w="9360">
            <a:solidFill>
              <a:srgbClr val="fe8637"/>
            </a:solidFill>
            <a:miter/>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 </a:t>
            </a:r>
            <a:r>
              <a:rPr b="0" lang="es-AR" sz="2000" spc="-1" strike="noStrike">
                <a:solidFill>
                  <a:srgbClr val="000000"/>
                </a:solidFill>
                <a:latin typeface="Century Schoolbook"/>
              </a:rPr>
              <a:t>VZ Bath &amp; Body SA (antes VZ Producciones SRL) s/recurso de apelación (TFN Sala D - 05/06/2019)</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La litis está planteada respecto a la veracidad de determinados gastos incurridos por la actora brindados por un proveedor cuestionado.</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Se confirma el ajuste en IVA y Salidas no Documentadas, no así en el Impuesto a las Ganancias.</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Se demostró que las tareas de construcción, albañilería e instalaciones se han llevado a cabo dado que fueron necesarias para poner en valor el inmueble arrendado que permitiera su disposición de utilización económica</a:t>
            </a:r>
            <a:endParaRPr b="0" lang="en-US" sz="20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99680" y="213840"/>
            <a:ext cx="7467480" cy="785880"/>
          </a:xfrm>
          <a:prstGeom prst="rect">
            <a:avLst/>
          </a:prstGeom>
          <a:solidFill>
            <a:srgbClr val="b32c16"/>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df5d5"/>
                </a:solidFill>
                <a:latin typeface="Century Schoolbook"/>
              </a:rPr>
              <a:t>NACIONAL</a:t>
            </a:r>
            <a:endParaRPr b="0" lang="en-US" sz="3000" spc="-1" strike="noStrike">
              <a:solidFill>
                <a:srgbClr val="575f6d"/>
              </a:solidFill>
              <a:latin typeface="Century Schoolbook"/>
            </a:endParaRPr>
          </a:p>
        </p:txBody>
      </p:sp>
      <p:sp>
        <p:nvSpPr>
          <p:cNvPr id="363" name=""/>
          <p:cNvSpPr txBox="1"/>
          <p:nvPr/>
        </p:nvSpPr>
        <p:spPr>
          <a:xfrm>
            <a:off x="456840" y="1285560"/>
            <a:ext cx="7467480" cy="5187960"/>
          </a:xfrm>
          <a:prstGeom prst="rect">
            <a:avLst/>
          </a:prstGeom>
          <a:solidFill>
            <a:srgbClr val="ffc000"/>
          </a:solidFill>
          <a:ln w="9360">
            <a:solidFill>
              <a:srgbClr val="fe8637"/>
            </a:solidFill>
            <a:miter/>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 </a:t>
            </a:r>
            <a:r>
              <a:rPr b="0" lang="es-AR" sz="2000" spc="-1" strike="noStrike">
                <a:solidFill>
                  <a:srgbClr val="000000"/>
                </a:solidFill>
                <a:latin typeface="Century Schoolbook"/>
              </a:rPr>
              <a:t>Tauil Juan Manuel (TFN Sala D - 17/05/2019)</a:t>
            </a:r>
            <a:endParaRPr b="0" lang="en-US" sz="20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Procedencia de la deducción de gastos de vestimenta para un profesional y director de empresa.</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Sale de la órbita de personas de alta exposición pública</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Vestimenta de tipo formal que excede el concepto de gasto personal.</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Razonabilidad del gasto por su bajo porcentual en relación con sus ingresos</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Existencia de otros comprobantes de gastos de vestimenta no computados como deducibles.</a:t>
            </a:r>
            <a:endParaRPr b="0" lang="en-US" sz="20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entury Schoolbook"/>
              </a:rPr>
              <a:t>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99680" y="213840"/>
            <a:ext cx="7467480" cy="785880"/>
          </a:xfrm>
          <a:prstGeom prst="rect">
            <a:avLst/>
          </a:prstGeom>
          <a:solidFill>
            <a:srgbClr val="b32c16"/>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df5d5"/>
                </a:solidFill>
                <a:latin typeface="Century Schoolbook"/>
              </a:rPr>
              <a:t>PROVINCIAL</a:t>
            </a:r>
            <a:endParaRPr b="0" lang="en-US" sz="3000" spc="-1" strike="noStrike">
              <a:solidFill>
                <a:srgbClr val="575f6d"/>
              </a:solidFill>
              <a:latin typeface="Century Schoolbook"/>
            </a:endParaRPr>
          </a:p>
        </p:txBody>
      </p:sp>
      <p:sp>
        <p:nvSpPr>
          <p:cNvPr id="365" name=""/>
          <p:cNvSpPr txBox="1"/>
          <p:nvPr/>
        </p:nvSpPr>
        <p:spPr>
          <a:xfrm>
            <a:off x="456840" y="1285560"/>
            <a:ext cx="7467480" cy="5187960"/>
          </a:xfrm>
          <a:prstGeom prst="rect">
            <a:avLst/>
          </a:prstGeom>
          <a:solidFill>
            <a:srgbClr val="ffc000"/>
          </a:solidFill>
          <a:ln w="9360">
            <a:solidFill>
              <a:srgbClr val="fe8637"/>
            </a:solidFill>
            <a:miter/>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entury Schoolbook"/>
              </a:rPr>
              <a:t>Tribunal Fiscal de Apelación de Buenos Aires, sala I ¨Grupo Sur S.A.¨ 11/04/2019</a:t>
            </a:r>
            <a:endParaRPr b="0" lang="en-US" sz="19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entury Schoolbook"/>
              </a:rPr>
              <a:t>Responsabilidad de Directores es Solidaria y no Subsidiaria con fundamento vinculado a la idea de compromiso social, a los principios de cooperación con la economía pública y el bienestar general</a:t>
            </a:r>
            <a:endParaRPr b="0" lang="en-US" sz="19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entury Schoolbook"/>
              </a:rPr>
              <a:t>Para que exista eximente de responsabilidad los directores deben demostrar que el impuesto se ha generado respecto de hechos o situaciones para los que no está facultado, que ha sido colocado en la imposibilidad de cumplir o que  procede alguna exención o exculpación  o que de su parte se realizaron las diligencias y/o acciones pertinentes al cumplimiento de la obligación o que sus funciones particulares se alejan de la administración general para especificarse en otras de diversa naturaleza.</a:t>
            </a:r>
            <a:endParaRPr b="0" lang="en-US" sz="19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entury Schoolbook"/>
              </a:rPr>
              <a:t>     </a:t>
            </a: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99680" y="213840"/>
            <a:ext cx="7467480" cy="785880"/>
          </a:xfrm>
          <a:prstGeom prst="rect">
            <a:avLst/>
          </a:prstGeom>
          <a:solidFill>
            <a:srgbClr val="b32c16"/>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df5d5"/>
                </a:solidFill>
                <a:latin typeface="Century Schoolbook"/>
              </a:rPr>
              <a:t>PROVINCIAL</a:t>
            </a:r>
            <a:endParaRPr b="0" lang="en-US" sz="3000" spc="-1" strike="noStrike">
              <a:solidFill>
                <a:srgbClr val="575f6d"/>
              </a:solidFill>
              <a:latin typeface="Century Schoolbook"/>
            </a:endParaRPr>
          </a:p>
        </p:txBody>
      </p:sp>
      <p:sp>
        <p:nvSpPr>
          <p:cNvPr id="367" name=""/>
          <p:cNvSpPr txBox="1"/>
          <p:nvPr/>
        </p:nvSpPr>
        <p:spPr>
          <a:xfrm>
            <a:off x="456840" y="1285560"/>
            <a:ext cx="7467480" cy="5187960"/>
          </a:xfrm>
          <a:prstGeom prst="rect">
            <a:avLst/>
          </a:prstGeom>
          <a:solidFill>
            <a:srgbClr val="ffc000"/>
          </a:solidFill>
          <a:ln w="9360">
            <a:solidFill>
              <a:srgbClr val="fe8637"/>
            </a:solidFill>
            <a:miter/>
          </a:ln>
        </p:spPr>
        <p:txBody>
          <a:bodyPr anchor="t">
            <a:normAutofit/>
          </a:bodyPr>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entury Schoolbook"/>
              </a:rPr>
              <a:t>Tribunal Fiscal de Apelación de Buenos Aires, sala I ¨ Grupo Peñaflor SA ¨ 04/06/2019</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entury Schoolbook"/>
              </a:rPr>
              <a:t>Confirma multa aplicada por ARBA a una empresa, por el traslado de bienes de su propiedad dentro del territorio provincial sin la documentación respaldatoria exigida por el art. 27 de la Resolución General (AFIP) 1415</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entury Schoolbook"/>
              </a:rPr>
              <a:t>Voto en  disidencia: Observo que en autos no se configuran los extremos necesarios que ameriten la procedencia de la sanción impuesta, toda vez que la documentación exhibida ante el Agente Fiscalizador en el marco del operativo de control de mercaderías en tránsito no solo que no ha obstaculizado la tarea de verificación y fiscalización, sino que ha permitido conocer el circuito de comercialización y distribución de los bienes del contribuyente en la porción objeto de verificación (cuestión que es tutelada por el artículo 82 del Código Fiscal al imponer la sanción).</a:t>
            </a:r>
            <a:endParaRPr b="0" lang="en-US" sz="19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Century Schoolbook"/>
              </a:rPr>
              <a:t>     </a:t>
            </a: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09T19:44:26Z</dcterms:created>
  <dc:creator>Aldo Maggiolo</dc:creator>
  <dc:description/>
  <dc:language>en-US</dc:language>
  <cp:lastModifiedBy>Aldo Maggiolo</cp:lastModifiedBy>
  <dcterms:modified xsi:type="dcterms:W3CDTF">2019-08-13T21:46:23Z</dcterms:modified>
  <cp:revision>35</cp:revision>
  <dc:subject/>
  <dc:title>JURISPRUDENCIA RELEVANTE</dc:title>
</cp:coreProperties>
</file>